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289-8DD9-4558-AD38-9A50465E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19B-C0BE-465F-A116-743A1C09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624-C259-4816-B6E2-6B60333A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8E6-86C7-426D-81A5-4CD86F9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070A-C565-40B2-8C94-D0D4778C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488-9668-4B26-BAEA-DAEB394A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16B-14DD-4894-A75B-3CD8D6D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5FE-D7A9-4925-8F69-7D5AE1A8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76B-0A2F-4380-8E3F-BB73CA7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640-CD25-4007-AE8E-F89F579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E0C-59BD-40DE-9AF4-03823525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4D8-0A1D-45DE-BBC2-C8D052EB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04AD-F9B0-494A-9B1F-60E2CC2A67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sociální práce s důrazem na jednotnou strategii ve Středočeském kraji“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1.00/A9.0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d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a není v metodě, ale v n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luvme o tom co nejde či jde, ale dělejm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uj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Někdy to jde ztuha, ale stojí to za 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eji hezký zbytek 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a Macu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a.macurova@cpkp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plňuje plánování sociálních služeb 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ředočeském kraji naše očekávání?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ne/popisují komunit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ší důsledky, ne pří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ují pouze jednotlivé sociál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ují potřebnost pouze ve vztahu k jednotlivým sociálním službá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Nejsou provázané s dalšími strategickými dokumenty 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nepopisují dostateč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zanost služ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z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lánování pomoci lidem v nou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i to nechtě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ní s kým plán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lo pozitivních příkla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úspěchů než úspěch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ce se plánovat pouze pro něko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Vždyť ti lidé si za to mohou 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potřebu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é příkla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hodné nástroje pro práci s klien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snou provázanou strategii v lokalitě/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ou podporu respektující sociální 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je potřeba mít v plán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 mezioborové spoluprá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preventivních programů s klie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tění kontinuální finanční podp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tupnost v 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upnost pom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ány musí být srozumitelné a respekt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itel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ažitel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ál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ě ohraniče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ě hodnoce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je důlež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tředočeským kraj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 MPS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 obcemi, poskytovatel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še vzájemná spoluprá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třebujeme krajskou strategii, která toto bude odráž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Martina Macurová</cp:lastModifiedBy>
  <dcterms:modified xsi:type="dcterms:W3CDTF">2013-11-27T07:40:45Z</dcterms:modified>
  <cp:revision>27</cp:revision>
  <dc:subject/>
  <dc:title>Snímek 1</dc:title>
</cp:coreProperties>
</file>